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7728-96CA-4460-A197-80532600B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0166-855D-45BA-9E71-0FD7F12E9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F87D-66FE-49B9-B0FA-3D13C01B0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4CBA-27E4-443D-9161-2FB9FB7DD5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20B4-4C52-4923-9783-C10D3C7E3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E873-1CCB-474A-A1CB-429FA1A9E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6F3F-85F4-4BE5-8E8F-1BA9B5A49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D746-E913-4C48-8988-B101DF5FE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4C63-2979-42E0-AB7F-48F48879B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98C1-31AC-448B-A9FF-C26055107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D3F6-0BE9-477E-B4BA-A68D9F78C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D220-185E-4330-B782-FF8261BD7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4EBF-015C-4A8F-9B2F-7BF7D926062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0" y="640044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 2009 ESIP Federation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AA Data Users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ewardship at the NOAA Data Ce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9920" y="2209680"/>
            <a:ext cx="711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697"/>
                </a:solidFill>
                <a:latin typeface="Arial Black"/>
              </a:rPr>
              <a:t>Keeping P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697"/>
                </a:solidFill>
                <a:latin typeface="Arial Black"/>
              </a:rPr>
              <a:t>with Evolving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6325-D123-4835-B0AA-F4EF65B9ED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ientific Data Stewardship (SD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6934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 of Authoritative Long Term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ting all our data sources together, to understand today’s environment in the context of the pas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Quality Monitoring for Long Term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ly examining data quality from our unique, integrated, and long-term persp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Term Preservation of Data and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uring information survives and remains understandable to our children and beyo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rchaeology and Resc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, saving, ingesting, and restoring data from all over the 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nd Information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ing information to users and ensuring the feedback loop contributes to its continual improve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24680" y="1295280"/>
            <a:ext cx="990720" cy="4800600"/>
          </a:xfrm>
          <a:prstGeom prst="upArrow">
            <a:avLst>
              <a:gd name="adj1" fmla="val 50000"/>
              <a:gd name="adj2" fmla="val 12113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Level of Stewar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2B02-EA65-45BA-9231-AF652F0550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ientific Data Stewardship (SD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 how can NOAA keep pace with our evolving communiti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676520"/>
            <a:ext cx="6892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 areas are “static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involve communities, and communiti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FD09-2AA4-47FA-ADD9-1CE772D6E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eping 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IP Federa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ree Data Centers and our CLASS infrastructure are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more NOAA offices join?  If so, which on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Society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nt attendance, with both presentations and boo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ravel is expensive, and big meetings are challenging to cover by one or f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re better ways to stay abreast of scientific communiti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4D83-B029-478A-B6CD-D79173F223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eping 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 Team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ing broader, direct eng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involvement often leads to more readily preserved observations and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 many Team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many out there… software groups, observing systems, metadata communitie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ain, early and active engagement is benefic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how do we prioritiz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0409-B2DB-4770-BCF4-2C4792096E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eping 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Services Requ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re revealing, and help us to underst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is there a more active approach we could use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3661-98E9-4C8A-A2F4-08F61A4087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3:50:47Z</dcterms:created>
  <dc:creator>Robert Reining</dc:creator>
  <dc:description/>
  <cp:keywords/>
  <dc:language>en-US</dc:language>
  <cp:lastModifiedBy>Ken Casey</cp:lastModifiedBy>
  <dcterms:modified xsi:type="dcterms:W3CDTF">2009-01-05T21:16:53Z</dcterms:modified>
  <cp:revision>6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